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22E-A74A-40EF-A02D-6013C8C9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B11-B0C6-414A-832C-F0E20F35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33E-96BC-4690-9B86-E6DB799D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803-55F5-4AC6-BEED-5FB8F9BB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916B-DCAC-4A46-A753-BAC45844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D7B0-E6FF-4B5B-9415-7D2C457F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C14B-2E90-48FA-B9E9-C6177D73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3F3E-93DE-4A34-8A28-7A30F7F2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844C-EA3B-4FFA-80C5-3B90438C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BFED-7241-4066-AFF1-4928EAAE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6126-6FAA-4DFF-8DF8-37DA12B0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7CE-CB56-44C7-B5B3-73DFEE59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8076-A635-4043-A2E0-A150A5C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9886-CBCC-4C84-95F7-9F99547F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96DD-2B23-46F2-B21B-8079F29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3F56-66A7-432B-8837-FE7F0A80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DC67-ED93-4003-AE79-7E544B08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B52-C9C3-45C3-A8AF-F350D37F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901-05F5-4FA2-BD9C-49A587F5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48F-0C8A-4501-9F93-3C66F8ED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AE4-5929-4B81-8CD3-21681607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268-BF03-408B-8AF0-2E4124F4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F98-C09D-4702-A075-5ADA6A24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287-18F1-47E3-8A67-E29FD66F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09F3-4247-41C0-ABC3-81CDE4A953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CD20-C95A-47DD-A0CD-A06801211D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40464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/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640" y="1557360"/>
            <a:ext cx="6985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ональ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05360"/>
            <a:ext cx="324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: Файзуллин Ф.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8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ил: Петухова И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9500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003280" y="1773360"/>
            <a:ext cx="4140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он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сткий ди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              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нипулятор «мыш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115920"/>
            <a:ext cx="734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 персонального компьют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608720" cy="273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3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35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9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03160"/>
                <a:tab algn="l" pos="1349280"/>
                <a:tab algn="l" pos="1617840"/>
                <a:tab algn="l" pos="1795320"/>
                <a:tab algn="l" pos="2063880"/>
                <a:tab algn="l" pos="2330280"/>
                <a:tab algn="l" pos="2776680"/>
                <a:tab algn="l" pos="304488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 служит для общения компьютера с пользователем. На нем компьютер отображает текст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. Изображение на мониторе состоит из отдельных маленьких точек, называемых пикс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21462600">
            <a:off x="1692000" y="4046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ит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76360" y="5157360"/>
            <a:ext cx="544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виатура предназначена для в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и в память компью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кропроцессор – микросхема, выполняющая обработку всей информации в компьютере. Микропроцессор – «мозг»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11592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97400" cy="3554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ий диск встроен внутрь системного блока и постоянно находится там. Жесткий диск представляет собой набор металлических или керамических дисков, покрытых магнитным сл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404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кий дис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74920" cy="4740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ативная память предназначена для хранения программ и данных, которые используются процессором в текущий момент. Содержимое оперативной памяти пропадает после выключения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358800">
            <a:off x="1044720" y="17640"/>
            <a:ext cx="66276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еративная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500360" cy="18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9:21:38Z</dcterms:created>
  <dc:creator>comp28-11</dc:creator>
  <dc:description/>
  <dc:language>en-US</dc:language>
  <cp:lastModifiedBy>comp28-11</cp:lastModifiedBy>
  <dcterms:modified xsi:type="dcterms:W3CDTF">2006-12-31T19:38:01Z</dcterms:modified>
  <cp:revision>5</cp:revision>
  <dc:subject/>
  <dc:title>Слайд 1</dc:title>
</cp:coreProperties>
</file>